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A19-C9D0-4F97-B28F-5ECCF95A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38E-327A-4793-A8B9-78448D07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61E-ECC4-4800-A833-893D0C1D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0F46-5CF7-4017-A758-903D761F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313-DD94-4EB8-A6CC-DC3635A5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504-059C-485E-A0EB-81040173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67FE-2317-411C-B0EB-5FACDE4F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18E-AA1A-4921-92E7-7123B862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9116-7658-4F00-887E-B9BD3A09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9E0-0445-4607-BBC9-38DDE445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8BA-28EF-47DF-895A-48509ACC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860-01C7-4FC6-B578-4A90C105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AB88-2B9A-485C-BF6E-76487A2147A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Rewri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Jiří Techet</cp:lastModifiedBy>
  <dcterms:modified xsi:type="dcterms:W3CDTF">2005-10-12T15:12:21Z</dcterms:modified>
  <cp:revision>153</cp:revision>
  <dc:subject/>
  <dc:title>Part I. Alphabets, Strings, and Languages</dc:title>
</cp:coreProperties>
</file>